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5C8-CDCB-427E-BFD1-69E73CA0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1C0-3ECC-4B2A-97B5-89E08FC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CEA-D8F4-4B1F-9BE1-0B399F56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0C1-7D67-4E01-8093-84EEC10A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704-83AE-4D30-A2C4-66097415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BE8-B742-453C-B116-559782E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D05-ED0E-44BB-A89D-5D40FDB7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175-DB7B-4DB3-8AD2-D75EA86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88C-853F-4B22-9012-1952D10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801-51F8-4D11-BD4B-84C716C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C32-2410-43BC-A9CC-B57375BF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071-7DD5-4068-8F64-7011781E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6167-E1FD-4901-9673-8CCE8445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أشيدوا النشيدَ وأوفوا العهودَ </a:t>
            </a:r>
            <a:r>
              <a:rPr b="1" lang="en-US" sz="4000" spc="-1" strike="noStrike">
                <a:solidFill>
                  <a:srgbClr val="ffcc66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وأدّوا السجودَ    لفاد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9166422xbudrJ_ph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990720"/>
            <a:ext cx="3581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لـهُ قـديـرُ              مليكٌ نصير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ربُّ كبيرٌ                  جليلُ المق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77120" y="3808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9166082tqnbVx_ph" descr=""/>
          <p:cNvPicPr/>
          <p:nvPr/>
        </p:nvPicPr>
        <p:blipFill>
          <a:blip r:embed="rId1"/>
          <a:stretch/>
        </p:blipFill>
        <p:spPr>
          <a:xfrm>
            <a:off x="-4413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533520"/>
            <a:ext cx="32767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طفلٍ صغيرٍ                وضيعٍ فقير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مهدٍ حقيرٍ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دا للأن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219320"/>
            <a:ext cx="25909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رجاءُ الشعوبِ              عزاءُ القلوب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بحُب عجيبٍ                 حبانا المَر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7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828800"/>
            <a:ext cx="24382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يا أمَّ فادي                 جميعَ العِبا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يومِ المَعادِ                 هَبينا السلام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9:19Z</dcterms:created>
  <dc:creator>SUZANNE.MD</dc:creator>
  <dc:description/>
  <dc:language>en-US</dc:language>
  <cp:lastModifiedBy>USER</cp:lastModifiedBy>
  <dcterms:modified xsi:type="dcterms:W3CDTF">2002-12-23T19:46:58Z</dcterms:modified>
  <cp:revision>2</cp:revision>
  <dc:subject/>
  <dc:title>PowerPoint Presentation</dc:title>
</cp:coreProperties>
</file>